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2.jpeg" ContentType="image/jpeg"/>
  <Override PartName="/ppt/media/image34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54D-326B-4E7E-9D43-04FB9109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39F-FDCD-4BB7-AB1A-E3AB4537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69C-C436-482C-B2FD-8E6393B6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158-C599-4B35-A20E-BCC9AD93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7D9-D897-411A-B814-22979497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EA0-7603-49FB-B2A8-19D137C1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F33-9AE8-4D2C-8185-77E9F62A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70A-9C59-4F0D-9613-68A61529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CE7-5DDC-4EE2-A7E6-D9000722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E5B-3D07-406E-A721-2045A006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87E-BC57-4677-81FC-4C9E99FB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FC0-F25D-4CD9-A8B5-BCCC8DCD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F95C-EE36-43FF-8660-144EA0AA0BD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54840" y="196920"/>
            <a:ext cx="1979640" cy="1971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71720" y="203040"/>
            <a:ext cx="2021040" cy="1500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97160" y="4286160"/>
            <a:ext cx="2330280" cy="238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746760" y="4343400"/>
            <a:ext cx="2211480" cy="232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129440" y="2357280"/>
            <a:ext cx="1800360" cy="1760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85760" y="1968480"/>
            <a:ext cx="18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832280" y="4272120"/>
            <a:ext cx="1719360" cy="239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00160" y="4865760"/>
            <a:ext cx="1873080" cy="1779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71360" y="182520"/>
            <a:ext cx="2521080" cy="158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070600" y="189000"/>
            <a:ext cx="1676160" cy="234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44800" y="3427560"/>
            <a:ext cx="54021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uola primaria di Us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S. 200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44600" y="1924200"/>
          <a:ext cx="4597560" cy="14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44600" y="1924200"/>
                    <a:ext cx="459756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5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1640" y="53085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anna, figlia di Minosse, appena lo 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innamorò pazzamente di Teseo e decise di aiut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che se erano nem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5027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46680" y="496260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r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47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1640" y="53085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anna gli diede un grosso gomitolo che lui doveva srot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ando avanti nel labirinto ma, in camb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eva essere sposata dal principe. Teseo accett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190440"/>
            <a:ext cx="6732720" cy="4970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46680" y="49053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ian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57" dur="3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1640" y="52941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eo entrò nel labirinto, percorse gli intricati corrid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intanto srotolava il fi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9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746680" y="493380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h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67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31640" y="52941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eo trovò Minotauro. I due combatterono a lun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ché Teseo riuscì a ucciderlo. Poi seguì il filo e tornò indie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890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46680" y="481968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u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77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1640" y="53085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eo mantenne la promessa e si imbarcò con Aria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andare ad Atene dove si sarebbero spos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5240" y="160200"/>
            <a:ext cx="6732360" cy="5018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46680" y="494820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87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5013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1640" y="52941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eo, però, per ordine di Poseidone, le dichiarò che aveva finto di am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salvarsi dalla prova del labirinto e piantò Arianna nell’isola di Na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46680" y="494820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ian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97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eo partì in tutta fretta ma, per errore, mise alla nave una vela n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eo, suo padre, la vide da lont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llo doveva essere il segno che Teseo era mort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6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746680" y="49053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co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207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31640" y="52941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ì il padre, dalla disperazi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buttò nel mare che bagna la costa gre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81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46680" y="49197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ssandro 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217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anna, rimasta sola, iniziò a piang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o a quando apparve al suo cospetto il dio Dion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, per confortarla, le donò una meravigliosa corona d’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59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746680" y="49197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227" dur="3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31640" y="53085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do Arianna morì, al sua corona fu mutata dal 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una costellazione splenden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1080" y="187200"/>
            <a:ext cx="6730920" cy="5085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746680" y="503388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237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osse, da giovane, desiderava con tutto se stesso diventare re di Cr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giorno chiese al dio Poseidone di mandare un s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inché i Cretesi capissero che era lui il prescel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42920"/>
            <a:ext cx="6732720" cy="5037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46680" y="493380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ariagraz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67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4600" y="176040"/>
            <a:ext cx="6703920" cy="5069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31640" y="5294160"/>
            <a:ext cx="82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ellazione di Arian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261800">
            <a:off x="1914120" y="3530520"/>
            <a:ext cx="539640" cy="60012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261800">
            <a:off x="3308040" y="363240"/>
            <a:ext cx="584280" cy="54612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261800">
            <a:off x="3720600" y="1875960"/>
            <a:ext cx="501840" cy="67644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261800">
            <a:off x="4428720" y="2955960"/>
            <a:ext cx="536760" cy="48888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261800">
            <a:off x="4211280" y="152280"/>
            <a:ext cx="561960" cy="50652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261800">
            <a:off x="2707920" y="1893960"/>
            <a:ext cx="546120" cy="59364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261800">
            <a:off x="2655720" y="3649680"/>
            <a:ext cx="565200" cy="65088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261800">
            <a:off x="3601800" y="3701520"/>
            <a:ext cx="530280" cy="60984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261800">
            <a:off x="1417680" y="2155680"/>
            <a:ext cx="460440" cy="60984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261800">
            <a:off x="953640" y="2865240"/>
            <a:ext cx="549360" cy="5331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732640" y="4991040"/>
            <a:ext cx="113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247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6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7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2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9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0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3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4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1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3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4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6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8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9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2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3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20840" y="1015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o mito ci ha insegnato 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 greci dovevano onorare le promesse fatte agli de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ci ha spiegato l’origine del nome del mare Ege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ascita della costellazione di Ari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come è nato il modo di dire “piantare in ass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35000" y="2521080"/>
            <a:ext cx="5248440" cy="3692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22640" y="6302520"/>
            <a:ext cx="46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tellone realizzato dai bambini di classe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1880" y="62676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75233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300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dio Poseidone fece uscire dall'acqua un toro bi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chiese a Minosse di sacrificarlo. I Cretesi si convinsero che lui era il predesti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 quest'ultimo offese il dio rifiutandosi di  uccidere il t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hé abbagliato dal suo splendore e sacrificò, invece, un’altra best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6732720" cy="4948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46680" y="49053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op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77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ra il dio fece innamorare la moglie di Minosse del t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ì Minosse ebbe per figlio un mostro, mezzo toro e mezzo uo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a creatura, fu chiamata Minota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4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46680" y="49053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87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31640" y="528012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osse non voleva si sapesse in giro che suo figlio era un mostr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ra chiese a Dedalo, un famoso architet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costruire un intricato labirinto per nascondervi Minota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30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46680" y="487692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gor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97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osse, oltre a Minotauro, ebbe altri otto fig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 cui Androgeo e Arian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ogeo, però, rimase ucciso ad Atene durante i giochi tauromach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7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46680" y="493380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le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07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31640" y="52941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re Minosse, sconvolto dal dolore,  accusò gli ateniesi di omic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dichiarò loro gu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198360"/>
            <a:ext cx="6745320" cy="4945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46680" y="48909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ssandro 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17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osse vinse e impose l’invio, ogni ann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sette fanciulli e sette fanciulle ateniesi da sacrifi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otauro per saziare la sua fame di carne u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853" t="0" r="-367" b="19406"/>
          <a:stretch/>
        </p:blipFill>
        <p:spPr>
          <a:xfrm>
            <a:off x="179280" y="189000"/>
            <a:ext cx="6747120" cy="4835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46680" y="480528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27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due volte fu ripetuto il sacrificio finché Tese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glio del re ateniese Egeo, volle porre fine a questo ecc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disse che avrebbe ucciso Minota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92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46680" y="49197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nni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37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8:47:12Z</dcterms:created>
  <dc:creator>Dir. Did. 2° Circolo</dc:creator>
  <dc:description/>
  <dc:language>en-US</dc:language>
  <cp:lastModifiedBy>kika</cp:lastModifiedBy>
  <dcterms:modified xsi:type="dcterms:W3CDTF">2010-06-20T18:07:09Z</dcterms:modified>
  <cp:revision>48</cp:revision>
  <dc:subject/>
  <dc:title>Diapositiva 1</dc:title>
</cp:coreProperties>
</file>